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FBE-A686-43D2-99A3-8B74D267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970-3D90-4863-ADF5-3CF06BBE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08A-BDCF-4D5E-A6CA-377908DA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110-5CB5-4EBB-AB1F-D7EB42FA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893B-0E10-499E-8D6E-8BF7D6B9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9091-52AF-46A9-8587-0F05920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4B76-1C10-4DD9-A174-26B0FC81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6A55-CF3C-4F71-8719-A2CDA6AD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B588-8990-487D-B6A7-1F3BC422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F052-1C79-407C-8A37-CAF03191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BC01-1905-4FA2-B8B6-503956D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C91-072E-4FD3-979D-854DDE51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84B5-2ABC-4CC0-A44A-FEB0D5A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0DFB-F022-4448-A5FF-01A313A9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9F0-02FB-4B56-8C9D-8072DBD4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7F37-D070-43D7-A1A8-FA4AF00A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60D0-3FBB-4235-AD7E-EC219B95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B2A0E-E2AF-4EFD-A840-CDA3110D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179BD-40E7-403D-99E5-1A1FD47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84D06-55D3-4B87-AD43-1C9BAFA5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97FBF-4136-48E8-AF22-164E4A76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04CDD-4FB4-4F76-8C09-9BF2C1FB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F31-6A36-4591-AE4C-65CE17D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027A4-7FF2-4F5F-B004-5DF48E25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A4A67-525A-46BA-9C39-B2C4775D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65AF2-2CC2-4E0D-868E-EA2CDDF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FB8E7-9DC4-46F3-BF31-6084DBA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434AD-6AAB-480B-A024-897A84A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B2D3B-CBD4-4573-ACAC-A8754AC0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4CBF1-9C20-48AD-A661-114D7A27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F31B-9E74-4D2F-BE70-69C61DEF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8B9E-B56A-46BA-B9CF-48A140C7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4A0C-D8D8-425E-9A89-5396375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60A-E1D0-42A5-8F0D-E0203C21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62A69-E91A-4E0E-A5B5-03819D0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739C-C27F-448E-9A20-5C4779C1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2879-637C-409E-B096-55EFC034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AE7A-ED9E-4A99-B258-3D2D95E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324A3-ACDC-4E6F-9D62-AA073B5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ECC5-1231-4FBC-B40D-F9E8195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6AE4-C300-4183-AF06-4CABC6B1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7384-7E6F-4E90-B083-4F8F74B9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3406-B7E6-45FE-A0F8-5F71A4FD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93613-4A8A-4569-B8F5-6FFAE8DF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FFE-5A2A-409F-8807-9241BB7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E8A14-2CFE-46CA-BDE9-56E4699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E3F0B-1555-4743-81B2-5F93A2BC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736F4-AA94-4C3A-B582-85A9C0F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76168-BC15-42B2-A315-FED8D91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FBF35-9E84-4262-A081-A319901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C171F-2786-405F-818B-36A4BF1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7BAF4-3497-4391-AE3F-2EF8A938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3B378-5529-4FB0-A411-BBE30D5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0D80D-C9F2-415F-A146-4CCB6343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D4F56-ED1B-4E27-BA43-3D9072AC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100-5B47-411E-9132-80540380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4F98C-348C-48C5-805C-4C520DF8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19F4A-A517-4B1A-9852-3645A8EE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AD418-D086-41B6-8BAB-748917FD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F6E6B-7260-41FF-B1AA-C13F9618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E1E3B-7321-4037-8730-6EB2EE15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01238-64AC-4352-8C15-7A408CF8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5118F-37E1-4886-A90D-A8CC41B2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DAC63-94F9-4676-9168-ECE8C5A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3B198-3659-493C-80E0-CD486BB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FD98D-553C-473E-90C0-0D1A8721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7CE-A771-4394-8907-1763D47B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D60FB-8DA7-477F-AF64-7A967DD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AD6E4-0855-4B5F-AF03-61FDCFC8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4E7C8-0FBB-4A0A-A481-162B68AC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9F2CD-F72A-4223-ADF9-9C57B048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30DBA-64FB-4A14-8736-1D7AA2EA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922198-E261-4A09-890A-7150E71A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271A1-6139-44B1-883B-6E5ACFDF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0B2FA-EB64-4EEF-84AE-215D0F6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22774-EFFB-455E-A83F-E99A7127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1DA64-B5F6-4243-A281-52133D1E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9F9-352A-48CF-BCAD-432FDB8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13FE2-E179-4073-9619-9A543DA0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5037E-8031-40BE-8FF7-87F3667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AAC9A-97E6-4490-8A5B-16735DCA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05982-2D18-4B81-9D5D-3625F21C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3D24E-80F0-49EF-9434-974591F2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F1E-08AF-49D4-8A85-4D10058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8FC85-0A81-41A1-B846-97FECD05879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A4924-2F31-47A9-A658-740EB8E56D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BEB8A-7836-4213-B123-1FC6A93CFA1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A0458-6FC2-4B1A-B449-1E230F9895E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5A3DF-4189-4458-959D-8BA493992AC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D5471-25EE-4716-9088-2E76FF93495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39C7B-CB32-4B3F-B7CA-A59D740C6304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3C4A2-C374-4BA9-A6F0-E0A7728FFAF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4C21F-945F-4C9E-92D0-38179343F22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952F0-3C9D-44A0-BC09-87AC4D9EC97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EEF2B-E69B-4288-9458-14610E9F401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C6362-C336-493C-ADAD-93636BBE906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F478E-B7DA-4EE2-9925-31E3C104D96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5EDA0-6117-49A6-B260-46C42B36CD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ail.waldwick.k12.nj.us/owa/redir.aspx?C=fc04f7014d4d4d809bb0259371364f16&amp;URL=http://library.waldwick.k12.nj.us" TargetMode="External"/><Relationship Id="rId2" Type="http://schemas.openxmlformats.org/officeDocument/2006/relationships/hyperlink" Target="http://www.bccls.org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40942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6</a:t>
            </a:r>
            <a:r>
              <a:rPr b="1" lang="en-US" sz="48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 GRADE </a:t>
            </a:r>
            <a:br>
              <a:rPr sz="4800"/>
            </a:b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SCIENCE FAIR: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RESEARCHING WITH </a:t>
            </a:r>
            <a:br>
              <a:rPr sz="4800"/>
            </a:br>
            <a:r>
              <a:rPr b="1" lang="en-US" sz="4800" spc="-1" strike="noStrike" u="sng">
                <a:solidFill>
                  <a:srgbClr val="575f6d"/>
                </a:solidFill>
                <a:uFillTx/>
                <a:latin typeface="Century Schoolbook"/>
              </a:rPr>
              <a:t>NON-FICTION BOOKS</a:t>
            </a:r>
            <a:br>
              <a:rPr sz="25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RAINSTORM KEYWORD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PIC EXAMPLE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Tornado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EYWORD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rnado Alle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EARCHING THE LIBRARY CATALOG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School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library.waldwick.k12.nj.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Public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bccls.org/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ITATION INFORMATION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ll-in the following information about th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n-fiction book you selec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lace of Pub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ublis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ear of Pub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dium of Publication:  PRI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NOTE TAKING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tes are not full sente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tes are fact fragment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phrase your fact fragments during the final writing proces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E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 a non-fiction book sour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ll-in the book’s citation in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reate a citation in MLA forma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e notes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Search for research books!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56:53Z</dcterms:created>
  <dc:creator>Paul Hummel</dc:creator>
  <dc:description/>
  <dc:language>en-US</dc:language>
  <cp:lastModifiedBy>Paul Hummel</cp:lastModifiedBy>
  <dcterms:modified xsi:type="dcterms:W3CDTF">2012-02-02T23:39:47Z</dcterms:modified>
  <cp:revision>3</cp:revision>
  <dc:subject/>
  <dc:title>   6TH Grade  Science Fair:  Researching with  NON-FICTION BOOKS </dc:title>
</cp:coreProperties>
</file>